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1F6-983B-4DE7-8FC6-206FE4CD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46E-DB7C-4F91-BC1A-68C4A35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F44-29F9-4202-A1F2-6641986D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B40-8B07-4F4F-B6E2-A515894D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3859-A491-4118-B731-F08BAC3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F283-17D2-44EA-9332-03B2621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910-9C78-45EF-9D99-83A807E9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A134-DBB1-42DA-B942-5B4F974D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B764-7C72-4579-8A50-0065D924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9C7-9111-433D-AD9A-24256A79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BF9C-292C-40DB-B7C8-85065A7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F50-FBB7-43EB-918C-0E347A2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2C18-E56F-4538-8551-4C728BB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2C34-AE89-45C6-AB7C-B42AC9BB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711-BE72-4FFC-AF7C-AD3AE72E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960-CF3E-4169-B05C-8E029409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2CD-459E-4ECA-AD28-247EBF6B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08C-1890-4D33-A375-EE57C686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12E-CD60-4199-9627-C808CEA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B7C-8602-4523-82FE-989F4DC8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54A-2818-4688-A405-0B4CFE42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C24-1EF5-4A62-AAC1-B8AF4056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5B0-7A93-4B95-AE54-9503E22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98B-56EC-419C-8B7B-8C52961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960B-B8E8-430D-89DE-DAFE39D0CD1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174-AC5C-4370-AC31-11CFE48109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2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27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>
                <a:gd name="textAreaLeft" fmla="*/ 0 w 1662120"/>
                <a:gd name="textAreaRight" fmla="*/ 1662480 w 1662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8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>
                <a:gd name="textAreaLeft" fmla="*/ 0 w 1049400"/>
                <a:gd name="textAreaRight" fmla="*/ 1049760 w 10494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0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6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34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6A76-48CD-462F-8722-7F686FCB3A3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B32C-038E-4668-83B2-72B1FFD7C9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opasnet.org/w/Opasnet_base_structure" TargetMode="External"/><Relationship Id="rId2" Type="http://schemas.openxmlformats.org/officeDocument/2006/relationships/hyperlink" Target="http://en.opasnet.org/w/Opasnet_base_structure" TargetMode="External"/><Relationship Id="rId3" Type="http://schemas.openxmlformats.org/officeDocument/2006/relationships/hyperlink" Target="http://en.opasnet.org/w/Opasnet_base_structure" TargetMode="External"/><Relationship Id="rId4" Type="http://schemas.openxmlformats.org/officeDocument/2006/relationships/hyperlink" Target="http://en.opasnet.org/w/Opasnet_base_structure" TargetMode="External"/><Relationship Id="rId5" Type="http://schemas.openxmlformats.org/officeDocument/2006/relationships/hyperlink" Target="http://en.opasnet.org/w/Opasnet_Base" TargetMode="External"/><Relationship Id="rId6" Type="http://schemas.openxmlformats.org/officeDocument/2006/relationships/hyperlink" Target="http://en.opasnet.org/w/Opasnet_Base" TargetMode="External"/><Relationship Id="rId7" Type="http://schemas.openxmlformats.org/officeDocument/2006/relationships/hyperlink" Target="http://en.opasnet.org/w/Opasnet_Base" TargetMode="External"/><Relationship Id="rId8" Type="http://schemas.openxmlformats.org/officeDocument/2006/relationships/hyperlink" Target="http://en.opasnet.org/w/Opasnet_Base" TargetMode="External"/><Relationship Id="rId9" Type="http://schemas.openxmlformats.org/officeDocument/2006/relationships/hyperlink" Target="http://fi.opasnet.org/fi/Opasnet-kanta" TargetMode="External"/><Relationship Id="rId10" Type="http://schemas.openxmlformats.org/officeDocument/2006/relationships/hyperlink" Target="http://fi.opasnet.org/fi/Opasnet-kanta" TargetMode="External"/><Relationship Id="rId11" Type="http://schemas.openxmlformats.org/officeDocument/2006/relationships/hyperlink" Target="http://fi.opasnet.org/fi/Opasnet-kanta" TargetMode="External"/><Relationship Id="rId12" Type="http://schemas.openxmlformats.org/officeDocument/2006/relationships/hyperlink" Target="http://fi.opasnet.org/fi/Opasnet-kanta" TargetMode="External"/><Relationship Id="rId13" Type="http://schemas.openxmlformats.org/officeDocument/2006/relationships/hyperlink" Target="http://fi.opasnet.org/fi/Opasnet-kanta" TargetMode="External"/><Relationship Id="rId14" Type="http://schemas.openxmlformats.org/officeDocument/2006/relationships/hyperlink" Target="http://fi.opasnet.org/fi/Opasnet-kanta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E287-F5DE-4837-B3AD-4BD9060DE3E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7503-7EE6-42A5-83BF-5E0AB5ED4E3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Opasnet-kanta tietovarastona ja -lähteenä.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Juomaveden terveysriskit ja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kloorauksen sivutuotteet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äivi Meriläinen, T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20BA-8C60-460E-A84C-49FBCDFDB41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B4A-0FE4-415E-B297-1EC129712A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374440" y="2852640"/>
            <a:ext cx="288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lukon lii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2781360"/>
            <a:ext cx="2160360" cy="108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564000" y="3141720"/>
            <a:ext cx="1800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2916360" y="3933720"/>
            <a:ext cx="251928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42480" y="4076640"/>
            <a:ext cx="2603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u tietokan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ttyvä 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556000" y="357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E385-B529-4C33-B033-89DFA8A4314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780-9953-4CE6-8DEB-924D6C01AC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Oval 5"/>
          <p:cNvSpPr/>
          <p:nvPr/>
        </p:nvSpPr>
        <p:spPr>
          <a:xfrm>
            <a:off x="4067280" y="501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076720" y="4869000"/>
            <a:ext cx="1511280" cy="43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093720" y="4292640"/>
            <a:ext cx="216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la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0F67-A56A-48F7-93EC-8F95BE72444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906A-9B5C-444D-9560-6D0A0A9F33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 - 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172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4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F0A-1D67-49A4-AD6B-253340C64D5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04E-D95B-4C69-888E-B40F124BBB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4071960" y="400068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loorauksen sivutuotteiden (trihalometaanien) aiheuttamat syöpätapaukset Suom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8D27-21B3-49FF-9298-1257A7BD022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324-E896-4665-AD69-CA673804F8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7560" cy="439272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2340000" y="39337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H="1" flipV="1">
            <a:off x="3499920" y="4357800"/>
            <a:ext cx="1357560" cy="714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460680" y="50720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viointiin liittyvä matemaattinen ma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498-A086-47F0-B988-A90E7369BAB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D81C-4A72-4D9B-AA0F-64896AF91A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275520" cy="3354480"/>
          </a:xfrm>
          <a:prstGeom prst="rect">
            <a:avLst/>
          </a:prstGeom>
          <a:ln w="0">
            <a:noFill/>
          </a:ln>
        </p:spPr>
      </p:pic>
      <p:sp>
        <p:nvSpPr>
          <p:cNvPr id="194" name="Line 4"/>
          <p:cNvSpPr/>
          <p:nvPr/>
        </p:nvSpPr>
        <p:spPr>
          <a:xfrm flipH="1" flipV="1">
            <a:off x="3357360" y="3714840"/>
            <a:ext cx="2143080" cy="1000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11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143000" y="2928960"/>
            <a:ext cx="1955880" cy="571320"/>
          </a:xfrm>
          <a:custGeom>
            <a:avLst/>
            <a:gdLst>
              <a:gd name="textAreaLeft" fmla="*/ 366480 w 1955880"/>
              <a:gd name="textAreaRight" fmla="*/ 1426320 w 195588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00" hR="21600" stAng="10800000" swAng="5400000"/>
                <a:lnTo>
                  <a:pt x="11701" y="0"/>
                </a:lnTo>
                <a:arcTo wR="8100" hR="21600" stAng="-5400000" swAng="2801063"/>
                <a:lnTo>
                  <a:pt x="21137" y="14400"/>
                </a:lnTo>
                <a:lnTo>
                  <a:pt x="18000" y="21600"/>
                </a:lnTo>
                <a:lnTo>
                  <a:pt x="13936" y="14400"/>
                </a:lnTo>
                <a:lnTo>
                  <a:pt x="15736" y="14400"/>
                </a:lnTo>
                <a:arcTo wR="8100" hR="21600" stAng="-2598937" swAng="-2507863"/>
                <a:lnTo>
                  <a:pt x="9900" y="540"/>
                </a:lnTo>
                <a:arcTo wR="8100" hR="21600" stAng="-5693200" swAng="-5106800"/>
                <a:close/>
              </a:path>
              <a:path fill="darkenLess" w="21600" h="21600">
                <a:moveTo>
                  <a:pt x="0" y="21600"/>
                </a:moveTo>
                <a:arcTo wR="8100" hR="21600" stAng="10800000" swAng="5400000"/>
                <a:lnTo>
                  <a:pt x="8100" y="0"/>
                </a:lnTo>
                <a:arcTo wR="8100" hR="21600" stAng="-5400000" swAng="293200"/>
                <a:lnTo>
                  <a:pt x="9900" y="540"/>
                </a:lnTo>
                <a:arcTo wR="8100" hR="21600" stAng="-5693200" swAng="-51068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788720" y="4929120"/>
            <a:ext cx="40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n tunnus sama k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00040" y="14288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n muuttujien tieto ladataan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C81C-D720-45D0-8C96-38AD6000A93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3A7-9EE1-4281-AF8E-AEAC185494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19880" cy="3430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6419880" cy="343044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1116000" y="2492280"/>
            <a:ext cx="2089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2484360" y="2997360"/>
            <a:ext cx="1366920" cy="86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0072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600360" y="1500120"/>
            <a:ext cx="4326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selle muuttujalle luo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 sivu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600" y="4357800"/>
            <a:ext cx="288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ös arviointisiv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ki muuttuj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7B1-654E-4738-B57E-04C5F9C2E1C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6B2-6509-49A6-8C73-346D36E500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215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17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68F8-8427-4BE5-AD53-66FB6D15646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5E8-EEC5-49CD-9683-B9D2522D68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0BF-C5A0-4763-96D5-E6E7F259FC7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D0E-F040-453B-B818-3FBCA0CEFF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6843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31F-093E-4330-BE68-CE5335893B2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7049-1B29-4459-AAAB-180911C01E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Opasnet-kanta 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hin Opasnet-kantaa voi käyttä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Opasnet-kanta toimii käytännöss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mien tulosten lataaminen Opasnet-kant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: Juomaveden trihalometaanit ja virtsarakon syöpä Suome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73E2-8BD1-463D-A859-4AA148918BA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B216-51A3-493A-8915-1B3094D627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645-5EEB-45DD-87AA-A083B691A62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4A4C-762E-444A-B584-07CF753C51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883-5A32-4607-B1F8-25841D30590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167-99BB-4ED6-95EC-6259426B26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EBEA-A89A-4363-8785-8EFF8C554CE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9D10-D338-4604-ABCA-C9B7F8E0E8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4"/>
          <a:stretch/>
        </p:blipFill>
        <p:spPr>
          <a:xfrm>
            <a:off x="1214280" y="2000160"/>
            <a:ext cx="85442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5BFC-8DF1-4258-BB11-5809E12A12D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99D0-D9A8-4AF8-A43D-013CBCA719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IITOS!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01560" y="162864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nkkejä Opasnet-kanta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3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4"/>
              </a:rPr>
              <a:t>Opasnet_base_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7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8"/>
              </a:rPr>
              <a:t>Opasnet_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9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0"/>
              </a:rPr>
              <a:t>fi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1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2"/>
              </a:rPr>
              <a:t>fi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3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4"/>
              </a:rPr>
              <a:t>Opasnet-ka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7317-D3F4-40E9-A024-7D533BE431C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D4E7-E2B0-4FCF-BD36-9CD84B31E6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Opasnet-kanta o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Opasnet-kant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on osa Opasnettiä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muuttujien tuloksia sekä tutkimusdata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kanta on pyritty suunnittelemaan joustavaksi </a:t>
            </a: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soveltuu lähes kaikenlaisen datan tallettami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mat tutkimustulokset, osatulokset, analyys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iskinarvioin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uuttuj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85000"/>
              </a:lnSpc>
              <a:spcBef>
                <a:spcPts val="68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C80-7CFD-4278-AD33-68ABCBD5DD3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7CE2-0B65-495E-BDA6-377A1091CD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hin Opasnet-kantaa voi käyttää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. Tulkittujen malli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nperin Opasnet-kanta suunniteltiin tulkittujen mallinnustulosten tallennuspaikaksi, ts. muuttujien tuloksi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lla pyritään vastaamaan todellisuutta koskeviin kysymyksiin, ja niiden tulokset ovat tämänhetkinen paras arvio vastauksek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en tulosten odotetaan kehittyvän jatkuv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538F-8A50-42DF-BCC3-DB86643B6DB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9EAB-89C6-4B11-9C68-57C6998B0E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2. ”Perinteisten" tutkimus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taan voidaan kerätä havaintodataa tietyistä tutkimuks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"Tutkimus" voi olla perinteinen tieteellinen tutkimus (julkais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-sivut ilmaisevat havainnot jostakin tietystä tieteellisestä (osa)tutkimuks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yn tutkimuksen tuottama data pysyy muuttumattomana tutkimuksen valmistutt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6FF-D8BB-41EE-94FB-5002FD9BB21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79A-CC54-46AF-99BD-B94DABCA8F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. Muita käyttötapo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ue-of-information analyysien tekeminen Opasnet-kann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daan epävarmuuden merkityksellisyyttä päätöksenteon kann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hakeminen tietokan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 olevien muuttujien laadun kehityksen seura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 muuttujat, jotka on joskus tallennettu Opasnet-kantaan, säilyvät siellä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nassa olevaa dataa voidaan käyttää, ladata ja tarkastel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oraan Analytica-malle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 ja tutkimussivuilla olevien linkkien kau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nettiliittymänsä kaut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alytica-ohjelmalla toteutetulla Opasnet base connection.ANA-tietokantaliittymäll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DA9-E392-4260-A6AA-A8ECFFFD9B7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2A5-0378-4FD1-9E48-F260CDDC94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6DB7-5148-4C65-B1F2-79A818FA9D9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DCAB-15AE-4BE8-8323-B0CCCE6D2A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nsin luodaan dataa kuvaava sivu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udy/tutk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riable/muutt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194440" cy="277632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5867280" y="4005360"/>
            <a:ext cx="636840" cy="18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7EE-1FF6-4CB4-AF36-3467134EF49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84CB-7643-4E1C-AAD1-68E6940CF9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H="1">
            <a:off x="2771280" y="3141720"/>
            <a:ext cx="259236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1908000" y="3357720"/>
            <a:ext cx="1008360" cy="50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835280" y="4581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2987640" y="4365720"/>
            <a:ext cx="295272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2627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H="1">
            <a:off x="3347640" y="3645000"/>
            <a:ext cx="230364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6840" y="2708280"/>
            <a:ext cx="107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j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872320" y="3284640"/>
            <a:ext cx="175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t tie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091920" y="4076640"/>
            <a:ext cx="216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syött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15:23Z</dcterms:created>
  <dc:creator>mika kontio / grow.</dc:creator>
  <dc:description/>
  <dc:language>en-US</dc:language>
  <cp:lastModifiedBy>pmea</cp:lastModifiedBy>
  <dcterms:modified xsi:type="dcterms:W3CDTF">2010-02-15T06:49:42Z</dcterms:modified>
  <cp:revision>32</cp:revision>
  <dc:subject>suomi</dc:subject>
  <dc:title>THL</dc:title>
</cp:coreProperties>
</file>